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1BD-E1DA-488B-8752-F1FAA7B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8F4-BA90-4C87-B295-7ACF9B0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ED6-68A2-471B-9961-E1E5389F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EF8-EFC4-42F1-B752-EEF92120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F12-FCE7-4BF8-B403-C64E35EC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AC2-0533-42B5-8854-58EDABF5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AF0-81B6-4802-91B6-AD09329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590-8513-41E7-8058-84E349A9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E14-3E48-479D-BCE7-B27E9FF6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2FF-B186-41BA-AE9F-96E6FB3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DEA-6F3C-44B1-AF24-9BAE04F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5DD-E068-4F36-A7F5-EEE0078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9E45-2711-4A92-9696-6AFC4B7EE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3 Mysli na tie časy dáv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sli na tie časy dáv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Pán Boh zjavo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il svoj ľud, čo je správ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zákon svoj im da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a ctiť a poslú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ch svojich mil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a ctiť a poslú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ch svojich mil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j Boha jedin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skú česť len jemu vz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bázňou vyslov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obotu pamätaj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väteným čas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ích dietok znameni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väteným čas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ích dietok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ctu k otcovi i mat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om čase zacho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ĺžiš si žitie krátk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láske s blížnym naží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ň sa slov i činov zl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äzkov hriešnych nečist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ň sa slov i činov zl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äzkov hriešnych nečist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dosť zlá, ni krádež nect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ktorého člove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lam a závisť, lživé zve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tana zbraň odvek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Bohu dokáž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eho keď miluje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Bohu dokáž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eho keď miluje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28:25Z</dcterms:modified>
  <cp:revision>20</cp:revision>
  <dc:subject/>
  <dc:title>Je veľký náš Pán, on slávy je Kráľ Nech do všetkých strán  spev vrúcnych znie chvál.</dc:title>
</cp:coreProperties>
</file>